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8AA6-4872-41CE-9820-6823048A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839-D41A-4F63-B589-71C885BE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0B0-B495-44EE-90F3-F032B5B8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EDE-1373-4D55-AE18-BBA5A1B8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184-4217-48C6-BE00-E474C9FA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A64-A149-43A6-8954-AEAB37D8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97B-3F63-4D34-B8D9-3A43537A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056-35E4-4227-BAC5-E226DD6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B77-8DD5-41E2-8317-D9EE44C4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500-275E-4CD9-9A6B-295FB3CA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DC8-6DFC-4B0E-BC7E-207CDFC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718-69BE-4BF1-8309-35BC191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7CC6-BBC8-4424-9B10-04DABE49A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гистрация в сис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ссылке Зарегистриров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1901" t="8418" r="25783" b="15981"/>
          <a:stretch/>
        </p:blipFill>
        <p:spPr>
          <a:xfrm>
            <a:off x="1332000" y="1628640"/>
            <a:ext cx="655308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12580" t="55520" r="66195" b="29146"/>
          <a:stretch/>
        </p:blipFill>
        <p:spPr>
          <a:xfrm>
            <a:off x="3348000" y="3789360"/>
            <a:ext cx="55800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187280" y="4724280"/>
            <a:ext cx="2232360" cy="1009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лнить обязательные п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я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 фамилия и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для двух учеников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 фамилия1 имя1 фамилия2 имя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оль – Ваш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тор пароля – повторить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фры с картинки сл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9323" t="14087" r="44091" b="8418"/>
          <a:stretch/>
        </p:blipFill>
        <p:spPr>
          <a:xfrm>
            <a:off x="0" y="1197000"/>
            <a:ext cx="29494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кнопку Отправ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5783" t="71732" r="37593" b="5584"/>
          <a:stretch/>
        </p:blipFill>
        <p:spPr>
          <a:xfrm>
            <a:off x="250920" y="1557360"/>
            <a:ext cx="8675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гистрация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09:38:01Z</dcterms:created>
  <dc:creator>admin</dc:creator>
  <dc:description/>
  <dc:language>en-US</dc:language>
  <cp:lastModifiedBy>Администратор</cp:lastModifiedBy>
  <dcterms:modified xsi:type="dcterms:W3CDTF">2019-05-06T08:19:50Z</dcterms:modified>
  <cp:revision>8</cp:revision>
  <dc:subject/>
  <dc:title>Регистрация в системе</dc:title>
</cp:coreProperties>
</file>