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B6E43-ACC6-4A46-9F71-BAF572B1A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4F1F2-F316-43D1-AD78-42A4DEFBC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7FF1B-8368-4890-8969-D3E9B33B5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AA60A-6753-4E4A-8722-9E8A95106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4D336-4CE3-4CD5-939C-EB433F823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F2555-CB2E-4FD2-9499-8D1382275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0973D-DF3E-46EB-B4F6-729656A56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3A8D1-0C29-42A1-84D6-695045C46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4A937-D7B9-4588-8777-FBF661E36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888D6-54E8-4B7E-8F62-838F76A98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C1747-110E-42B8-A329-2A61781C0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DADCD-FBE8-4217-8545-1523F2298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F3007-5F20-4C0C-8D9B-F10E6F6B5B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10.9.32.1:8080/" TargetMode="External"/><Relationship Id="rId2" Type="http://schemas.openxmlformats.org/officeDocument/2006/relationships/image" Target="../media/image2.png"/><Relationship Id="rId3" Type="http://schemas.openxmlformats.org/officeDocument/2006/relationships/hyperlink" Target="http://10.9.32.1/" TargetMode="External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Как сдать блок-схем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ереключиться в браузе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rcRect l="14558" t="14844" r="41732" b="47056"/>
          <a:stretch/>
        </p:blipFill>
        <p:spPr>
          <a:xfrm>
            <a:off x="755640" y="1484280"/>
            <a:ext cx="7416720" cy="51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Нажать «Файл попытки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rcRect l="14558" t="14844" r="41732" b="47056"/>
          <a:stretch/>
        </p:blipFill>
        <p:spPr>
          <a:xfrm>
            <a:off x="755640" y="1484280"/>
            <a:ext cx="7416720" cy="51721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5902200" y="3860640"/>
            <a:ext cx="2198880" cy="72072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Нажать «Выберите файл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24638" t="21662" r="-652" b="35030"/>
          <a:stretch/>
        </p:blipFill>
        <p:spPr>
          <a:xfrm>
            <a:off x="468360" y="1413000"/>
            <a:ext cx="7993080" cy="475272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1692360" y="4005360"/>
            <a:ext cx="3241440" cy="71892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Найти и выбрать сохранённый фай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468360" y="1413000"/>
            <a:ext cx="6983280" cy="515916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1619280" y="4724280"/>
            <a:ext cx="1727280" cy="35892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902200" y="5445000"/>
            <a:ext cx="2054520" cy="4320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042920" y="4076640"/>
            <a:ext cx="720720" cy="647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8d8d8"/>
              </a:gs>
            </a:gsLst>
            <a:lin ang="5400000"/>
          </a:gra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227640" y="4653000"/>
            <a:ext cx="720720" cy="647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8d8d8"/>
              </a:gs>
            </a:gsLst>
            <a:lin ang="5400000"/>
          </a:gra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Выбрать «Проверка блок-схемы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539640" y="1989000"/>
            <a:ext cx="7417080" cy="42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Нажать «Отправить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539640" y="2349360"/>
            <a:ext cx="8209080" cy="36468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195640" y="4869000"/>
            <a:ext cx="2198520" cy="72072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Ждите результата провер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971640" y="1341360"/>
            <a:ext cx="6769080" cy="50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Результаты провер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Accepted!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• Решение удачно скомпилировано и прошло все тест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Compilation 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Wrong Ans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Presentation 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Runtime 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Memory Lim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Security Vio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Wai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Waiting (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Chec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Исправить ошибки, при их наличии и повторить проверк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Как сдать блок-схем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Запустить браузе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116000" y="1413000"/>
            <a:ext cx="6767640" cy="50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ерейти по адресу </a:t>
            </a:r>
            <a:r>
              <a:rPr b="0" lang="en-US" sz="4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10.9.32.1:8080/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rcRect l="11901" t="8418" r="25783" b="48217"/>
          <a:stretch/>
        </p:blipFill>
        <p:spPr>
          <a:xfrm>
            <a:off x="1332000" y="1484280"/>
            <a:ext cx="6553080" cy="28083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95280" y="4653000"/>
            <a:ext cx="828036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Или перейти по адресу </a:t>
            </a:r>
            <a:r>
              <a:rPr b="0" lang="en-US" sz="4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10.9.32.1/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 и нажать «Сдать задачи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вести имя и парол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95280" y="1844640"/>
            <a:ext cx="7705800" cy="36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ерейти в раздел Сборни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24000" y="1197000"/>
            <a:ext cx="8424720" cy="53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ыбрать сборн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95280" y="1197000"/>
            <a:ext cx="8209080" cy="552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Выбрать задачу и прочитать её услов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rcRect l="14558" t="14844" r="41732" b="47056"/>
          <a:stretch/>
        </p:blipFill>
        <p:spPr>
          <a:xfrm>
            <a:off x="755640" y="1484280"/>
            <a:ext cx="7416720" cy="51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ростроить блок-схем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6280" y="1322280"/>
            <a:ext cx="8686800" cy="54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419280" y="274320"/>
            <a:ext cx="5267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охранить фай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2232000" cy="2448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rcRect l="-207" t="3485" r="55912" b="56643"/>
          <a:stretch/>
        </p:blipFill>
        <p:spPr>
          <a:xfrm>
            <a:off x="0" y="2060640"/>
            <a:ext cx="6227640" cy="44845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908000" y="549360"/>
            <a:ext cx="721080" cy="647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8d8d8"/>
              </a:gs>
            </a:gsLst>
            <a:lin ang="5400000"/>
          </a:gra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3635280" y="1476360"/>
            <a:ext cx="5508720" cy="42577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2340000" y="2565360"/>
            <a:ext cx="720720" cy="647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8d8d8"/>
              </a:gs>
            </a:gsLst>
            <a:lin ang="5400000"/>
          </a:gra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236000" y="1989000"/>
            <a:ext cx="720720" cy="648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8d8d8"/>
              </a:gs>
            </a:gsLst>
            <a:lin ang="5400000"/>
          </a:gra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835280" y="5805360"/>
            <a:ext cx="3241440" cy="7192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5013360"/>
            <a:ext cx="3241440" cy="7192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8-24T10:42:46Z</dcterms:created>
  <dc:creator>admin</dc:creator>
  <dc:description/>
  <dc:language>en-US</dc:language>
  <cp:lastModifiedBy>Администратор</cp:lastModifiedBy>
  <dcterms:modified xsi:type="dcterms:W3CDTF">2019-05-06T08:19:02Z</dcterms:modified>
  <cp:revision>26</cp:revision>
  <dc:subject/>
  <dc:title>Как решать задачи</dc:title>
</cp:coreProperties>
</file>