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19FC-8D39-44D6-B342-ACB521B3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4176-A646-4340-BB21-7433C120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88A-EE5E-408E-AF03-A65FFC41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065-3124-4AFF-8AAE-0496DA28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05B-0A57-43A4-8671-DA23F106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23D-84A3-4D2A-A233-3209C432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8C7-B3B1-491D-808B-CD74160E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0A8-146F-4CEB-AD96-A646CCE9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89B-9794-4D3C-AC18-00DD719E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E46-5BC9-4C3B-A305-F37E99EB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CC5-1EA0-4838-ABA2-12C4EB70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827-7CF6-455B-8574-9BD43C46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168E-FD34-4C11-BC69-7341C8A6E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10.9.32.1:8080/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10.9.32.1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решать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21656" t="9377" r="23424" b="14087"/>
          <a:stretch/>
        </p:blipFill>
        <p:spPr>
          <a:xfrm>
            <a:off x="1403280" y="1671480"/>
            <a:ext cx="5904000" cy="514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устить среду разработки (программу для решения задач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6341" t="26378" r="32278" b="31107"/>
          <a:stretch/>
        </p:blipFill>
        <p:spPr>
          <a:xfrm>
            <a:off x="179280" y="1773360"/>
            <a:ext cx="8785440" cy="5040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устить среду разработки (программу для решения задач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устить среду разработки (программу для решения задач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5153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которые программы надо предварительно настро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жн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ить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исать программу или алгорит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рить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равить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грузить решение в систему 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брать компиля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жать кнопку Отправ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а разработки проверяет только правильность синтаксиса (программа может запускаться, работать, но выдавать не верные отве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ster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яет правильность решения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жн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2825" t="15041" r="24012" b="12211"/>
          <a:stretch/>
        </p:blipFill>
        <p:spPr>
          <a:xfrm>
            <a:off x="0" y="0"/>
            <a:ext cx="788508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учить результат пров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Accepted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 Решение удачно скомпилировано и прошло все те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ompilation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rong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Presentation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Runtim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emory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ecurity Vi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Waiting (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равить ошибки, при их наличии и повторить провер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ажн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мательно читайте услови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яйте решение на разных входных данных (если есть входные дан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ая часть задач использует целый тип данных (используй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in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но не в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екоторых используются дробные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ие программы требуют вывода каждого числа отдельной строкой (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(x,y)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(x);writeln(y)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дной программе могут быть данные разных тип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не должна ждать нажатия кноп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выполнения – её не кому нажим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не должна выводить на экран дополнительные сообщения, если это не указано в условии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здании дружелюбного интерфейса помните, что «а» и «А» - разный текст, так же как «А=» и «А =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создания дружелюбного интерфейса используйте оператор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(‘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ите возраст Саши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);readln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устить брауз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15742" t="13147" r="21656" b="12211"/>
          <a:stretch/>
        </p:blipFill>
        <p:spPr>
          <a:xfrm>
            <a:off x="1116000" y="1413000"/>
            <a:ext cx="67676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грамма выдает ошибки при провер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среде программа работает правильно, то проверьте операции ввода-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ы работают из сред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calABC.NE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 при проверке первая выда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38560" y="3124080"/>
            <a:ext cx="41054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,i:int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:Array[1..51] of int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Read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1]:=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2]: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3]:=133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r i:=4 to 51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i]:= o[i-1] + o[i-2] + o[i-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riteln(o[a+1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197160"/>
            <a:ext cx="410544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,i:int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:Array[1..51] of int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n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1]:=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2]: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3]:=133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r i:=4 to 51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i]:= o[i-1] + o[i-2] + o[i-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riteln(o[a+1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грамма выдает ошибки при провер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среде программа работает правильно, то проверьте операции ввода-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ы работают из сред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Studi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 при проверке первая выда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ong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8560" y="3124080"/>
            <a:ext cx="41054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f(n%3 == 0){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cout&lt;&lt;a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&lt;&lt;end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}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if(n%3 == 1){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d = a + b + c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cout&lt;&lt;b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&lt;&lt;end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}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if(n%3 == 2){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cout&lt;&lt;c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&lt;&lt;end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}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return 0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3197160"/>
            <a:ext cx="410544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f(n%3 == 0){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cout&lt;&lt;a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}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if(n%3 == 1){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d = a + b + c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cout&lt;&lt;b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}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if(n%3 == 2){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cout&lt;&lt;c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}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return 0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грамма выдает ошибки при провер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ьте в другой версии языка программирования, если есть такая возмож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помните – среды могут быть не полностью совмест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ы работают из сре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calABC.N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о при проверке с помощь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Pascal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выдает ошибку компи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3197160"/>
            <a:ext cx="410544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a,i:int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:Array[1..51] of int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1]:=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2]: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3]:=133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r i:=4 to 51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i]:= o[i-1] + o[i-2] + o[i-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riteln(o[a+1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38560" y="3197160"/>
            <a:ext cx="410544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a:int64;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:integ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:Array[1..51] of int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1]:=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2]: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3]:=133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r i:=4 to 51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[i]:= o[i-1] + o[i-2] + o[i-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riteln(o[a+1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решать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ейти по адресу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0.9.32.1:8080/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11901" t="8418" r="25783" b="48217"/>
          <a:stretch/>
        </p:blipFill>
        <p:spPr>
          <a:xfrm>
            <a:off x="1332000" y="1484280"/>
            <a:ext cx="6553080" cy="280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653000"/>
            <a:ext cx="8280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ли перейти по адресу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10.9.32.1/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и нажать «Сдать задач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вести имя и пар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390" t="32042" r="77178" b="50938"/>
          <a:stretch/>
        </p:blipFill>
        <p:spPr>
          <a:xfrm>
            <a:off x="395280" y="1844640"/>
            <a:ext cx="770580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йти в раздел Сбор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2240" t="17875" r="18697" b="21645"/>
          <a:stretch/>
        </p:blipFill>
        <p:spPr>
          <a:xfrm>
            <a:off x="324000" y="1197000"/>
            <a:ext cx="842472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брать сбор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21656" t="17875" r="18697" b="17875"/>
          <a:stretch/>
        </p:blipFill>
        <p:spPr>
          <a:xfrm>
            <a:off x="395280" y="1197000"/>
            <a:ext cx="820908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брать задачу и прочитать её усло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21656" t="17875" r="28738" b="31178"/>
          <a:stretch/>
        </p:blipFill>
        <p:spPr>
          <a:xfrm>
            <a:off x="395280" y="1773360"/>
            <a:ext cx="79218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устить среду разработки (программу для решения задач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12500" t="13147" r="28151" b="15041"/>
          <a:stretch/>
        </p:blipFill>
        <p:spPr>
          <a:xfrm>
            <a:off x="611280" y="1341360"/>
            <a:ext cx="7235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495440"/>
            <a:ext cx="7420320" cy="5362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пустить среду разработки (программу для решения задач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4T10:42:46Z</dcterms:created>
  <dc:creator>admin</dc:creator>
  <dc:description/>
  <dc:language>en-US</dc:language>
  <cp:lastModifiedBy>Администратор</cp:lastModifiedBy>
  <dcterms:modified xsi:type="dcterms:W3CDTF">2019-12-02T06:18:54Z</dcterms:modified>
  <cp:revision>29</cp:revision>
  <dc:subject/>
  <dc:title>Как решать задачи</dc:title>
</cp:coreProperties>
</file>