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74C-8352-4C93-B6B8-CEFC28E9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F59-74D8-4356-9E36-E59D478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64B-8FB1-4D54-BE50-ACD7DA3F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A16-0BB1-44BD-AF89-202D7312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B09-7729-4C99-8B1D-5225F8B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91C-BF19-448B-9377-E5796E1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DA5-755B-44D6-8538-917EE73E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849-B446-45A1-A1AE-64B7E47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4E7-EE0A-4617-A7D3-C1D3BAB8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A65-660D-4D21-9698-054C445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639-DD03-43AE-8AA6-B8F701F6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313-94CD-4F24-958F-67358DC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225D-4D5A-49A5-BA42-A6BDDA6B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сдать таблицу трасс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дел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пирова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тавить таблицу в поле «Текст попы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9850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тавить таблицу в поле «Текст попы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ать компилятор 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ссировочная таблица)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кнопку «Отправ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дите результата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ccepted!• Решение удачно скомпилировано и прошло все те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mpi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esent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mory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urity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равить ошибки, при их наличии и повторить провер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читайте услови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яйте решение на разных входных данных (если есть вход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 часть задач использует целый тип данных (есть несколько целых типов), но не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 не должна выводить на экран дополнительные сообщения, если это не указано в услови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дружелюбного интерфейса помните, что «а» и «А» - разный текст, так же как «А=» и «А =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742" t="13147" r="21656" b="1221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дать таблицу трасс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сти имя и па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90" t="32042" r="77178" b="50938"/>
          <a:stretch/>
        </p:blipFill>
        <p:spPr>
          <a:xfrm>
            <a:off x="395280" y="1844640"/>
            <a:ext cx="7705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йти в раздел Сбо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2240" t="17875" r="18697" b="21645"/>
          <a:stretch/>
        </p:blipFill>
        <p:spPr>
          <a:xfrm>
            <a:off x="324000" y="1197000"/>
            <a:ext cx="8424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рать сб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656" t="17875" r="18697" b="17875"/>
          <a:stretch/>
        </p:blipFill>
        <p:spPr>
          <a:xfrm>
            <a:off x="395280" y="1197000"/>
            <a:ext cx="820908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задачу и прочитать её 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632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ить таблицу трассировки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332000" y="2708280"/>
          <a:ext cx="5687640" cy="3778200"/>
        </p:xfrm>
        <a:graphic>
          <a:graphicData uri="http://schemas.openxmlformats.org/drawingml/2006/table">
            <a:tbl>
              <a:tblPr/>
              <a:tblGrid>
                <a:gridCol w="681840"/>
                <a:gridCol w="835200"/>
                <a:gridCol w="834120"/>
                <a:gridCol w="832320"/>
                <a:gridCol w="835200"/>
                <a:gridCol w="833760"/>
                <a:gridCol w="835200"/>
              </a:tblGrid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5564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на переменных записывать по алфавиту, в ячейках писать тольк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3634" t="1093" r="21747" b="28598"/>
          <a:stretch/>
        </p:blipFill>
        <p:spPr>
          <a:xfrm>
            <a:off x="118728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10:42:46Z</dcterms:created>
  <dc:creator>admin</dc:creator>
  <dc:description/>
  <dc:language>en-US</dc:language>
  <cp:lastModifiedBy>Администратор</cp:lastModifiedBy>
  <dcterms:modified xsi:type="dcterms:W3CDTF">2019-05-06T08:19:34Z</dcterms:modified>
  <cp:revision>23</cp:revision>
  <dc:subject/>
  <dc:title>Как решать задачи</dc:title>
</cp:coreProperties>
</file>