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5B26-25BB-4839-8D80-D0CDBB00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D6A2-1885-44E9-B4CE-59A3F4A2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CFB-FD2D-474B-BC0E-B1A0529C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E97E-1C24-43E4-8540-8FAD56A8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484-B4DB-43EC-8B49-EEE19FFD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8ED-EA80-4AAF-9EC2-3E928217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E6A-E103-4C4F-BBAB-786A6AF0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3296-F778-47D2-9EBA-2484DBA9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C180-A65C-453B-8C95-29F113C4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5FBE-213A-4313-B184-B3F1F0DC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C7A8-BE34-44B5-BA2B-15D0A028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2F7A-2601-4C7F-8A80-82EDAE76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AC1D-034E-4A7C-A817-94937749B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10.9.32.1:8080/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10.9.32.1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гистрация в систе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устить брауз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15742" t="13147" r="21656" b="12211"/>
          <a:stretch/>
        </p:blipFill>
        <p:spPr>
          <a:xfrm>
            <a:off x="1116000" y="1413000"/>
            <a:ext cx="67676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ейти по адресу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10.9.32.1:8080/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11901" t="8418" r="25783" b="48217"/>
          <a:stretch/>
        </p:blipFill>
        <p:spPr>
          <a:xfrm>
            <a:off x="1332000" y="1484280"/>
            <a:ext cx="6553080" cy="2808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4653000"/>
            <a:ext cx="8280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ли перейти по адресу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10.9.32.1/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и нажать «Сдать задач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ейти по ссылке Зарегистрирова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1901" t="8418" r="25783" b="15981"/>
          <a:stretch/>
        </p:blipFill>
        <p:spPr>
          <a:xfrm>
            <a:off x="1332000" y="1628640"/>
            <a:ext cx="6553080" cy="496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12580" t="55520" r="66195" b="29146"/>
          <a:stretch/>
        </p:blipFill>
        <p:spPr>
          <a:xfrm>
            <a:off x="3348000" y="3789360"/>
            <a:ext cx="5580000" cy="252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187280" y="4724280"/>
            <a:ext cx="2232360" cy="1009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олнить обязательные по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я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асс фамилия им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для двух учеников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асс фамилия1 имя1 фамилия2 имя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оль – Ваш па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тор пароля – повторить па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ифры с картинки сл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29323" t="14087" r="44091" b="8418"/>
          <a:stretch/>
        </p:blipFill>
        <p:spPr>
          <a:xfrm>
            <a:off x="0" y="1197000"/>
            <a:ext cx="29494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жать кнопку Отправ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25783" t="71732" r="37593" b="5584"/>
          <a:stretch/>
        </p:blipFill>
        <p:spPr>
          <a:xfrm>
            <a:off x="250920" y="1557360"/>
            <a:ext cx="867564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гистрация заверш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4T09:38:01Z</dcterms:created>
  <dc:creator>admin</dc:creator>
  <dc:description/>
  <dc:language>en-US</dc:language>
  <cp:lastModifiedBy>Администратор</cp:lastModifiedBy>
  <dcterms:modified xsi:type="dcterms:W3CDTF">2019-05-06T08:19:50Z</dcterms:modified>
  <cp:revision>8</cp:revision>
  <dc:subject/>
  <dc:title>Регистрация в системе</dc:title>
</cp:coreProperties>
</file>