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94B-4F97-43BB-B488-5406209C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C30-A904-44E4-9B4C-460B006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31E-6E6A-4AB1-B6F1-1966E566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672-40BD-4063-9F4D-394C7FC0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A94-30F0-4FB5-A08C-F79A788F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09E-5E6F-4DC2-8D3B-966218D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5C8-9B8E-455E-86B4-00B11D4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BA9-99B4-47B7-B1FD-23684FF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EF3-780C-45AD-BF60-1C2CB7D7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8EA-F220-40DC-BE64-54F083B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FF4-3CC7-4A4D-A8C8-265A5D6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DF7-6E9B-4E6B-AC02-9D91916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BFE6-38D3-4950-8F74-164CE865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ешат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21656" t="9377" r="23424" b="14087"/>
          <a:stretch/>
        </p:blipFill>
        <p:spPr>
          <a:xfrm>
            <a:off x="1403280" y="1671480"/>
            <a:ext cx="5904000" cy="514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341" t="26378" r="32278" b="31107"/>
          <a:stretch/>
        </p:blipFill>
        <p:spPr>
          <a:xfrm>
            <a:off x="179280" y="1773360"/>
            <a:ext cx="8785440" cy="504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515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торые программы надо предварительно настро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сать программу или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и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рави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рузить решение в систему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компиля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жать кнопку Отпр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 разработки проверяет только правильность синтаксиса (программа может запускаться, работать, но выдавать не верные от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e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т правильность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825" t="15041" r="24012" b="12211"/>
          <a:stretch/>
        </p:blipFill>
        <p:spPr>
          <a:xfrm>
            <a:off x="0" y="0"/>
            <a:ext cx="78850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учить результат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Accepted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тельно читайте услов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йте решение на разных входных данных (если есть входные д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задач использует целый тип данных (используй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о не в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которых используются дроб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программы требуют вывода каждого числа отдельной строкой (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x,y)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x);writeln(y)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й программе могут быть данные разны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не должна ждать нажатия кноп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полнения – её не кому нажим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не должна выводить на экран дополнительные сообщения, если это не указано в услови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здании дружелюбного интерфейса помните, что «а» и «А» - разный текст, так же как «А=» и «А =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оздания дружелюбного интерфейса используйте операто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 возраст Саши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);readln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реде программа работает правильно, то проверьте операции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ABC.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при проверке первая выд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8560" y="3124080"/>
            <a:ext cx="4105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реде программа работает правильно, то проверьте операции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Stud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при проверке первая выд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ng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8560" y="3124080"/>
            <a:ext cx="4105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f(n%3 == 0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a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if(n%3 == 1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d = a + b + c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b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if(n%3 == 2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c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return 0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f(n%3 == 0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a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if(n%3 == 1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d = a + b + c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b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if(n%3 == 2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c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return 0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 в другой версии языка программирования, если есть такая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омните – среды могут быть не полностью совмест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ABC.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при проверке с помощ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asca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выдает ошибку компи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a:int64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ешат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90" t="32042" r="77178" b="50938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2240" t="17875" r="18697" b="21645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56" t="17875" r="18697" b="17875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1656" t="17875" r="28738" b="31178"/>
          <a:stretch/>
        </p:blipFill>
        <p:spPr>
          <a:xfrm>
            <a:off x="395280" y="1773360"/>
            <a:ext cx="79218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2500" t="13147" r="28151" b="15041"/>
          <a:stretch/>
        </p:blipFill>
        <p:spPr>
          <a:xfrm>
            <a:off x="611280" y="1341360"/>
            <a:ext cx="7235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495440"/>
            <a:ext cx="7420320" cy="536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12-02T06:18:54Z</dcterms:modified>
  <cp:revision>29</cp:revision>
  <dc:subject/>
  <dc:title>Как решать задачи</dc:title>
</cp:coreProperties>
</file>