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DC6-17B3-43F6-9FAB-D00155C4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7A4-61B8-4E8D-8835-B49D65AB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D84-3F91-4790-B1E8-7C14F548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012-AB2A-4E3A-9F15-33317F8E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B70-3D3F-4389-8C18-0A654BFA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0B7-2059-4081-8B36-B71C8A49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820-D1C4-4414-80D6-CE476BA5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003C-9D95-4B8C-9ADF-8796518B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3D8-64B7-4FFB-9D44-AAC8A09F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3EB-81FB-41BF-8B32-C22DCB30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1340-9E33-4462-9359-3E6C2323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CB0-4E60-40F6-8F4C-9E4414C5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9541-02DB-42E9-BCA3-DF782E108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10.9.32.1:8080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10.9.32.1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сдать блок-сх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ключиться в брау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14558" t="14844" r="41732" b="47056"/>
          <a:stretch/>
        </p:blipFill>
        <p:spPr>
          <a:xfrm>
            <a:off x="755640" y="1484280"/>
            <a:ext cx="74167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жать «Файл попыт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4558" t="14844" r="41732" b="47056"/>
          <a:stretch/>
        </p:blipFill>
        <p:spPr>
          <a:xfrm>
            <a:off x="755640" y="1484280"/>
            <a:ext cx="7416720" cy="5172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902200" y="3860640"/>
            <a:ext cx="2198880" cy="72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жать «Выберите файл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4638" t="21662" r="-652" b="35030"/>
          <a:stretch/>
        </p:blipFill>
        <p:spPr>
          <a:xfrm>
            <a:off x="468360" y="1413000"/>
            <a:ext cx="7993080" cy="4752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92360" y="4005360"/>
            <a:ext cx="3241440" cy="718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ти и выбрать сохранённый фай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983280" cy="5159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19280" y="4724280"/>
            <a:ext cx="1727280" cy="358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02200" y="5445000"/>
            <a:ext cx="2054520" cy="432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4076640"/>
            <a:ext cx="7207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653000"/>
            <a:ext cx="7207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рать «Проверка блок-схем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4170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жать «Отправи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8209080" cy="3646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5640" y="4869000"/>
            <a:ext cx="2198520" cy="720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дите результата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Accepted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 Решение удачно скомпилировано и прошло все те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mpil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ong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resent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untim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emory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curity Vi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aiting (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равить ошибки, при их наличии и повторить провер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сдать блок-схе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тить брау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76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0.9.32.1:8080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1901" t="8418" r="25783" b="48217"/>
          <a:stretch/>
        </p:blipFill>
        <p:spPr>
          <a:xfrm>
            <a:off x="1332000" y="1484280"/>
            <a:ext cx="655308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653000"/>
            <a:ext cx="82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ли 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10.9.32.1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и нажать «Сдать задач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вести имя и па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77058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йти в раздел Сбор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24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рать сбор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рать задачу и прочитать её усло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4558" t="14844" r="41732" b="47056"/>
          <a:stretch/>
        </p:blipFill>
        <p:spPr>
          <a:xfrm>
            <a:off x="755640" y="1484280"/>
            <a:ext cx="74167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строить блок-схе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6280" y="1322280"/>
            <a:ext cx="86868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хранить фай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-207" t="3485" r="55912" b="56643"/>
          <a:stretch/>
        </p:blipFill>
        <p:spPr>
          <a:xfrm>
            <a:off x="0" y="2060640"/>
            <a:ext cx="6227640" cy="4484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08000" y="549360"/>
            <a:ext cx="7210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635280" y="1476360"/>
            <a:ext cx="5508720" cy="4257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40000" y="2565360"/>
            <a:ext cx="7207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1989000"/>
            <a:ext cx="72072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5805360"/>
            <a:ext cx="3241440" cy="719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5013360"/>
            <a:ext cx="3241440" cy="719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4T10:42:46Z</dcterms:created>
  <dc:creator>admin</dc:creator>
  <dc:description/>
  <dc:language>en-US</dc:language>
  <cp:lastModifiedBy>Администратор</cp:lastModifiedBy>
  <dcterms:modified xsi:type="dcterms:W3CDTF">2019-05-06T08:19:02Z</dcterms:modified>
  <cp:revision>26</cp:revision>
  <dc:subject/>
  <dc:title>Как решать задачи</dc:title>
</cp:coreProperties>
</file>