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4F8B-1675-414F-825B-2AFE1658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81DE-892C-4AE1-9E39-67BF2B0D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9A38-0E04-445B-8B2E-E5912DB0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485B-8623-4745-B910-701187951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7B5B-FD04-4D05-8DE3-9554792F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B99C-F1B0-4789-BD6C-4DC9C6F5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B6B7-DC49-4C38-9428-1C34D9F7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774C-8B45-441C-B057-AC0ABBFB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AA7A-AB73-4EFA-AEC0-9EDFACEA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54BC-B755-4FB6-952E-223AB700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70A7-F975-4327-8875-E36283A4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F204-3A34-4B43-B1CC-3866D57E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DB02-EA24-413D-8535-49C1B0389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10.9.32.1:8080/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10.9.32.1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сдать таблицу трассиров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делить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784836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опировать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12944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ставить таблицу в поле «Текст попыт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698508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ставить таблицу в поле «Текст попыт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27236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брать компилятор «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stom (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ассировочная таблица)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784872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жать кнопку «Отправит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705636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дите результата 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67690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зультаты 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ccepted!• Решение удачно скомпилировано и прошло все тес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ompilation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rong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Presentation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Runtim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Memory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ecurity Vi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a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aiting (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править ошибки, при их наличии и повторить провер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ажно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нимательно читайте условие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еряйте решение на разных входных данных (если есть входные дан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шая часть задач использует целый тип данных (есть несколько целых типов), но не в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грамма не должна выводить на экран дополнительные сообщения, если это не указано в условии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создании дружелюбного интерфейса помните, что «а» и «А» - разный текст, так же как «А=» и «А =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пустить брауз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15742" t="13147" r="21656" b="12211"/>
          <a:stretch/>
        </p:blipFill>
        <p:spPr>
          <a:xfrm>
            <a:off x="1116000" y="1413000"/>
            <a:ext cx="676764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сдать таблицу трассиров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ейти по адресу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10.9.32.1:8080/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11901" t="8418" r="25783" b="48217"/>
          <a:stretch/>
        </p:blipFill>
        <p:spPr>
          <a:xfrm>
            <a:off x="1332000" y="1484280"/>
            <a:ext cx="6553080" cy="2808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4653000"/>
            <a:ext cx="8280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ли перейти по адресу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10.9.32.1/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и нажать «Сдать задач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вести имя и пар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390" t="32042" r="77178" b="50938"/>
          <a:stretch/>
        </p:blipFill>
        <p:spPr>
          <a:xfrm>
            <a:off x="395280" y="1844640"/>
            <a:ext cx="770580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ейти в раздел Сбор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22240" t="17875" r="18697" b="21645"/>
          <a:stretch/>
        </p:blipFill>
        <p:spPr>
          <a:xfrm>
            <a:off x="324000" y="1197000"/>
            <a:ext cx="842472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брать сбор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21656" t="17875" r="18697" b="17875"/>
          <a:stretch/>
        </p:blipFill>
        <p:spPr>
          <a:xfrm>
            <a:off x="395280" y="1197000"/>
            <a:ext cx="820908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брать задачу и прочитать её усло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632720" cy="47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троить таблицу трассировки в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332000" y="2708280"/>
          <a:ext cx="5687640" cy="3778200"/>
        </p:xfrm>
        <a:graphic>
          <a:graphicData uri="http://schemas.openxmlformats.org/drawingml/2006/table">
            <a:tbl>
              <a:tblPr/>
              <a:tblGrid>
                <a:gridCol w="681840"/>
                <a:gridCol w="835200"/>
                <a:gridCol w="834120"/>
                <a:gridCol w="832320"/>
                <a:gridCol w="835200"/>
                <a:gridCol w="833760"/>
                <a:gridCol w="835200"/>
              </a:tblGrid>
              <a:tr h="70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9999"/>
                      </a:solidFill>
                    </a:lnL>
                    <a:lnR w="4320">
                      <a:solidFill>
                        <a:srgbClr val="009999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4320">
                      <a:solidFill>
                        <a:srgbClr val="0099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4320">
                      <a:solidFill>
                        <a:srgbClr val="0099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755640" y="170028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ена переменных записывать по алфавиту, в ячейках писать только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23634" t="1093" r="21747" b="28598"/>
          <a:stretch/>
        </p:blipFill>
        <p:spPr>
          <a:xfrm>
            <a:off x="1187280" y="0"/>
            <a:ext cx="665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4T10:42:46Z</dcterms:created>
  <dc:creator>admin</dc:creator>
  <dc:description/>
  <dc:language>en-US</dc:language>
  <cp:lastModifiedBy>Администратор</cp:lastModifiedBy>
  <dcterms:modified xsi:type="dcterms:W3CDTF">2019-05-06T08:19:34Z</dcterms:modified>
  <cp:revision>23</cp:revision>
  <dc:subject/>
  <dc:title>Как решать задачи</dc:title>
</cp:coreProperties>
</file>